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98428-78A8-4C1A-A8AD-44BBD6C00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407B1-2DA2-4001-BC51-189CDDAEF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E54BB-2D7B-4DFD-88C0-090951C85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9AB73-2947-4EE6-BB5F-494EEB70B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3B683-E957-4431-83C5-CA524E50D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8A701-13EB-427A-B671-DCE1DD18C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E84F7-A6B5-4631-A43A-963F2A1D1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02CA6-1FB2-4338-A36A-A207B3E85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1A0C0-0E04-401D-B11F-65F7405AA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3F887-F2A0-4B79-A326-FCCCEC2F5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8921B-8DB4-4A86-B648-DFA067CE6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2AC5-976E-4BA1-851F-D25DDFA84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A211-CF8E-4583-B435-43527EC8F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pic>
        <p:nvPicPr>
          <p:cNvPr id="6" name=""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radley Hand ITC TT-Bold"/>
              <a:ea typeface="儷黑 Pro"/>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ea typeface="儷黑 Pro"/>
              </a:rPr>
              <a:t>By~Hannah Hendri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s of Error</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tested oil, our hair absorbed most of it, making it hard to rate softness because it felt wet. I didn’t think the results were accurate so we didn’t use the rat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search</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ould like to do the same experiment, but with skin. I could use things like mud or cucumbers or other things that are supposed to make your skin sof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every week we had a day of science fair. We spent about 16 hours working o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3"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 Peanut butter, smooth style, with sal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Nutrition Facts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and Analysis for Peanu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butter, smooth style, with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salt ." SELFNutritiondata Nutrition facts, calories in food,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labels, nutritional information and analysis –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NutritionData.com . N.p., n.d. Web. 11 Mar. 2011.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lt;http://nutritiondata.self.com/facts/legumes-and-</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legume-products/4366/2&gt;.</a:t>
            </a:r>
            <a:endParaRPr b="0" lang="en-US" sz="2000" spc="-1" strike="noStrike">
              <a:solidFill>
                <a:srgbClr val="000000"/>
              </a:solidFill>
              <a:latin typeface="Arial"/>
            </a:endParaRPr>
          </a:p>
          <a:p>
            <a:pPr marL="298440" indent="-29844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Hosman, Tami. Interview by Brayden Hosman. Personal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interview. 26 Jan. 2011.</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Egg, whole, raw, fresh." Nutrition facts, calories in food, labels,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nutritional information and analysis –NutritionData.com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N.p., n.d. Web. 11 Mar. 2011.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lt;http://nutritiondata.self.com/facts/dairy-an egg-</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	</a:t>
            </a:r>
            <a:r>
              <a:rPr b="0" lang="en-US" sz="2000" spc="-1" strike="noStrike">
                <a:solidFill>
                  <a:srgbClr val="000000"/>
                </a:solidFill>
                <a:latin typeface="Bradley Hand ITC TT-Bold"/>
              </a:rPr>
              <a:t>products/111/2&gt;.</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 </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ouldn’t have been able to do this project without a number of people. My “subjects” were super important, because they were the only people brave enough to let me put random things in their hair.</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Problem</a:t>
            </a:r>
            <a:r>
              <a:rPr b="0" lang="en-US" sz="4400" spc="-1" strike="noStrike">
                <a:solidFill>
                  <a:srgbClr val="000000"/>
                </a:solidFill>
                <a:latin typeface="Bradley Hand ITC TT-Bold"/>
                <a:ea typeface="儷黑 Pro"/>
              </a:rPr>
              <a:t>	</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ea typeface="儷黑 Pro"/>
              </a:rPr>
              <a:t>What effect do different household items have on h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ea typeface="儷黑 Pro"/>
              </a:rPr>
              <a:t>On shampoo and conditioner bottles, they say “Made with natural fruits and vegetables” If you think about it though, putting food in your hair sounds like it would do more damage than good. My project will test different foods to see if they actually make your hair softer. </a:t>
            </a:r>
            <a:endParaRPr b="0" lang="en-US" sz="3200" spc="-1" strike="noStrike">
              <a:solidFill>
                <a:srgbClr val="000000"/>
              </a:solidFill>
              <a:latin typeface="Arial"/>
            </a:endParaRPr>
          </a:p>
        </p:txBody>
      </p:sp>
      <p:sp>
        <p:nvSpPr>
          <p:cNvPr id="49" name=""/>
          <p:cNvSpPr/>
          <p:nvPr/>
        </p:nvSpPr>
        <p:spPr>
          <a:xfrm>
            <a:off x="4408560" y="-892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Hypothesi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ea typeface="儷黑 Pro"/>
              </a:rPr>
              <a:t>I think the peanut butter will make the hair softest. There are oils in it like the others, but not enough to keep from being washed ou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Material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Blow drier</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Brush</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Towel</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2 sticks butter</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Jar of peanut butter</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2 cups vegetable oil</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6 eggs</a:t>
            </a:r>
            <a:endParaRPr b="0" lang="en-US" sz="2800" spc="-1" strike="noStrike">
              <a:solidFill>
                <a:srgbClr val="000000"/>
              </a:solidFill>
              <a:latin typeface="Arial"/>
            </a:endParaRPr>
          </a:p>
          <a:p>
            <a:pPr marL="339480" indent="-33948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Pen &amp; Paper</a:t>
            </a:r>
            <a:r>
              <a:rPr b="0" lang="en-US" sz="2800" spc="-1" strike="noStrike">
                <a:solidFill>
                  <a:srgbClr val="000000"/>
                </a:solidFill>
                <a:latin typeface="Bradley Hand ITC TT-Bold"/>
                <a:ea typeface="儷黑 Pro"/>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Procedur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Gather materials</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Take control – Wet all subject’s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Dry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Brush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Have tester test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	</a:t>
            </a:r>
            <a:r>
              <a:rPr b="0" lang="en-US" sz="2000" spc="-1" strike="noStrike">
                <a:solidFill>
                  <a:srgbClr val="000000"/>
                </a:solidFill>
                <a:latin typeface="Bradley Hand ITC TT-Bold"/>
                <a:ea typeface="儷黑 Pro"/>
              </a:rPr>
              <a:t>Have tester rate on scale of 1-10</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Put ½ cup of peanut butter in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Rinse completely </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Dry hair</a:t>
            </a:r>
            <a:r>
              <a:rPr b="0" lang="en-US" sz="2000" spc="-1" strike="noStrike">
                <a:solidFill>
                  <a:srgbClr val="000000"/>
                </a:solidFill>
                <a:latin typeface="Bradley Hand ITC TT-Bold"/>
                <a:ea typeface="儷黑 Pro"/>
              </a:rPr>
              <a:t>	</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Brush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Have tester test hair</a:t>
            </a:r>
            <a:endParaRPr b="0" lang="en-US" sz="2000" spc="-1" strike="noStrike">
              <a:solidFill>
                <a:srgbClr val="000000"/>
              </a:solidFill>
              <a:latin typeface="Arial"/>
            </a:endParaRPr>
          </a:p>
          <a:p>
            <a:pPr marL="288000" indent="-288000">
              <a:lnSpc>
                <a:spcPct val="90000"/>
              </a:lnSpc>
              <a:spcBef>
                <a:spcPts val="499"/>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Have tester rate on scale of 1-10</a:t>
            </a:r>
            <a:endParaRPr b="0" lang="en-US" sz="2000" spc="-1" strike="noStrike">
              <a:solidFill>
                <a:srgbClr val="000000"/>
              </a:solidFill>
              <a:latin typeface="Arial"/>
            </a:endParaRPr>
          </a:p>
          <a:p>
            <a:pPr marL="288000" indent="-288000">
              <a:lnSpc>
                <a:spcPct val="9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ea typeface="儷黑 Pro"/>
              </a:rPr>
              <a:t>Repeat steps using oil &amp; eggs, and butter</a:t>
            </a:r>
            <a:r>
              <a:rPr b="0" lang="en-US" sz="2800" spc="-1" strike="noStrike">
                <a:solidFill>
                  <a:srgbClr val="000000"/>
                </a:solidFill>
                <a:latin typeface="Bradley Hand ITC TT-Bold"/>
                <a:ea typeface="儷黑 Pro"/>
              </a:rPr>
              <a:t> </a:t>
            </a:r>
            <a:endParaRPr b="0"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Major Observation</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  </a:t>
            </a:r>
            <a:endParaRPr b="0" lang="en-US" sz="2800" spc="-1" strike="noStrike">
              <a:solidFill>
                <a:srgbClr val="000000"/>
              </a:solidFill>
              <a:latin typeface="Arial"/>
            </a:endParaRPr>
          </a:p>
        </p:txBody>
      </p:sp>
      <p:pic>
        <p:nvPicPr>
          <p:cNvPr id="58" name="" descr=""/>
          <p:cNvPicPr/>
          <p:nvPr/>
        </p:nvPicPr>
        <p:blipFill>
          <a:blip r:embed="rId1"/>
          <a:stretch/>
        </p:blipFill>
        <p:spPr>
          <a:xfrm>
            <a:off x="4648320" y="2286000"/>
            <a:ext cx="3809880" cy="3505320"/>
          </a:xfrm>
          <a:prstGeom prst="rect">
            <a:avLst/>
          </a:prstGeom>
          <a:ln w="0">
            <a:noFill/>
          </a:ln>
        </p:spPr>
      </p:pic>
      <p:pic>
        <p:nvPicPr>
          <p:cNvPr id="59" name="" descr=""/>
          <p:cNvPicPr/>
          <p:nvPr/>
        </p:nvPicPr>
        <p:blipFill>
          <a:blip r:embed="rId2"/>
          <a:stretch/>
        </p:blipFill>
        <p:spPr>
          <a:xfrm>
            <a:off x="685800" y="2286000"/>
            <a:ext cx="388620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Conclusion</a:t>
            </a:r>
            <a:endParaRPr b="0" lang="en-US" sz="4400" spc="-1" strike="noStrike">
              <a:solidFill>
                <a:srgbClr val="000000"/>
              </a:solidFill>
              <a:latin typeface="Arial"/>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I thought that peanut butter would make hair the softest, but I was wrong. The eggs made our hair soft, and it didn’t look oily. Also, it didn’t smell too bad.</a:t>
            </a:r>
            <a:endParaRPr b="0" lang="en-US" sz="2800" spc="-1" strike="noStrike">
              <a:solidFill>
                <a:srgbClr val="000000"/>
              </a:solidFill>
              <a:latin typeface="Arial"/>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ea typeface="儷黑 Pro"/>
              </a:rPr>
              <a:t>   </a:t>
            </a:r>
            <a:r>
              <a:rPr b="0" lang="en-US" sz="2800" spc="-1" strike="noStrike">
                <a:solidFill>
                  <a:srgbClr val="000000"/>
                </a:solidFill>
                <a:latin typeface="Bradley Hand ITC TT-Bold"/>
                <a:ea typeface="儷黑 Pro"/>
              </a:rPr>
              <a:t>The butter didn’t work very well. It made it look oily and it stun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TT-Bold"/>
                <a:ea typeface="儷黑 Pro"/>
              </a:rPr>
              <a:t>Variable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	</a:t>
            </a:r>
            <a:endParaRPr b="0" lang="en-US" sz="3200" spc="-1" strike="noStrike">
              <a:solidFill>
                <a:srgbClr val="000000"/>
              </a:solidFill>
              <a:latin typeface="Arial"/>
            </a:endParaRPr>
          </a:p>
        </p:txBody>
      </p:sp>
      <p:sp>
        <p:nvSpPr>
          <p:cNvPr id="65" name=""/>
          <p:cNvSpPr/>
          <p:nvPr/>
        </p:nvSpPr>
        <p:spPr>
          <a:xfrm>
            <a:off x="609480" y="1523880"/>
            <a:ext cx="830592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adley Hand ITC TT-Bold"/>
              </a:rPr>
              <a:t>Independent variable~ Household items</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adley Hand ITC TT-Bold"/>
              </a:rPr>
              <a:t>Dependant Variables~ The hair</a:t>
            </a:r>
            <a:r>
              <a:rPr b="0" lang="en-US" sz="2400" spc="-1" strike="noStrike">
                <a:solidFill>
                  <a:srgbClr val="000000"/>
                </a:solidFill>
                <a:latin typeface="Bradley Hand ITC TT-Bol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6:44:41Z</dcterms:created>
  <dc:creator>STERLING  USD376</dc:creator>
  <dc:description/>
  <dc:language>en-US</dc:language>
  <cp:lastModifiedBy>STERLING  USD376</cp:lastModifiedBy>
  <dcterms:modified xsi:type="dcterms:W3CDTF">2011-03-11T15:34:27Z</dcterms:modified>
  <cp:revision>15</cp:revision>
  <dc:subject/>
  <dc:title>PowerPoint Presentation</dc:title>
</cp:coreProperties>
</file>